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7350-FBE6-4551-8383-72B3A4392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146240" y="685800"/>
            <a:ext cx="457020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body"/>
          </p:nvPr>
        </p:nvSpPr>
        <p:spPr>
          <a:xfrm>
            <a:off x="685800" y="4343400"/>
            <a:ext cx="5487840" cy="4116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371536-129B-4D89-A37D-5CDE7B87A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30446E-535A-46F5-AB66-9124094DA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E02F76-237A-47CA-AAD7-61A3A7E9E2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605FC4-20B2-4784-83D1-4571B60D9A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332BCF-7F0F-448D-B9FC-78669774A0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5A340-8C77-4E6C-8BEE-263CA95B8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87C7B-DBDB-4939-9288-05E1AB41E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14AB5-7403-4F84-9E81-D6366B748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16029-00B9-4FB4-9B7C-16D7865C6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A2F01-074C-42C7-A04A-7307C5F0F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BF07E-6983-431E-A05D-1CEA52F1C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416419-C717-417B-9345-6FE99C172D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4908B-BA6D-49EB-836B-D108FE0EE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DD22B-011A-4C59-B0E4-4A4B474E1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B5CC8-9655-4114-9ACE-75BB19F4D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4F94EC-6C52-423B-B824-2D1D2F468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7452E-9ADA-4F1F-8130-BA9D654858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DAB502-0BCC-40A9-B1C1-FFEC17D66D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B1C3B1-91C6-4BDB-AD29-EE0D2666B9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AA6E9E-DBF6-4504-B431-779FF49462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3C57E5-91CB-4463-99E3-217CE63EB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5B875B-084E-42CE-9C83-D7D146B087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4EE9CA-DD08-40F3-B838-1ED99B8AB5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D34349-31E5-4CA8-A592-380632C1DBC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692A-8201-4C5E-9905-2FD7C7ED2E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02B7-45AD-4BC5-BC02-24533E4F90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6</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Exercises for Part 3</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Exercise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three advantages/disadvantages of using a web of trust model vs. using a certificate authority–based trust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how you can use symmetric encryption to achieve (a) authentication, (b) confidentiality, and (c) message integr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Problem</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the </a:t>
            </a:r>
            <a:r>
              <a:rPr b="0" lang="en-US" sz="2800" spc="-1" strike="noStrike">
                <a:solidFill>
                  <a:srgbClr val="000000"/>
                </a:solidFill>
                <a:latin typeface="Courier New"/>
              </a:rPr>
              <a:t>AESEncrypter</a:t>
            </a:r>
            <a:r>
              <a:rPr b="0" lang="en-US" sz="2800" spc="-1" strike="noStrike">
                <a:solidFill>
                  <a:srgbClr val="000000"/>
                </a:solidFill>
                <a:latin typeface="Arial"/>
              </a:rPr>
              <a:t> program of Section 12.1.6 to compute and verify a MAC on the message in addition to encrypting and decrypting data. Be sure to use different keys for the encryption and MAC compu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ker Student</cp:lastModifiedBy>
  <dcterms:modified xsi:type="dcterms:W3CDTF">2008-06-20T22:20:0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